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schreite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ubulusrück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esorptionskapazitä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ubulus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0280" y="549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lukos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Überschreite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ubulusrück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sorptionskapazitä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gly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23200" y="549360"/>
            <a:ext cx="66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lukos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schreiten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ubulusrückresorptionskapazitä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gly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3"/>
            <a:endCxn id="112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3" name=""/>
          <p:cNvCxnSpPr>
            <a:stCxn id="110" idx="3"/>
            <a:endCxn id="11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lukoseproduk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0" idx="3"/>
            <a:endCxn id="11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uli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Diabetes Typ 1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ulinresist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Diabetes Typ 2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22480" y="549360"/>
            <a:ext cx="68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lukos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schreiten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ubulusrückresorptionskapazitä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gly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20" idx="3"/>
            <a:endCxn id="12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produk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2480" y="549360"/>
            <a:ext cx="68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lukos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Überschreiten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ubulusrückresorptionskapazitä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glyk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Glukoseproduk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3400" y="54936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lukos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Überschreiten der Tubulusrückresorptionskapazität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glykämie &gt; Glukoseproduktion ↑ 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3"/>
            <a:endCxn id="1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ubulus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4480" y="54936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lukos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ubulus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geborenes Fanconi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rworbenes Fanconi-Syndr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Ethylenglykol-Intoxika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NSAIDs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ptospir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480" y="6153480"/>
            <a:ext cx="38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NSAIDs = nicht-steroidale Antiphlogistika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18:48Z</dcterms:modified>
  <cp:revision>327</cp:revision>
  <dc:subject/>
  <dc:title>Vorstellung einer Neuheit</dc:title>
</cp:coreProperties>
</file>